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DCB9-5702-45C7-924F-103AD8C4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3CD0-6CF6-4959-A859-E1988777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5ECD-D5BA-4DCC-B470-1011482C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63B-D564-4502-9BAE-1A4A8B0B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3C3-47C3-485F-AE74-7C70FCBE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312-D037-4752-A6BF-72665410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31F-6059-4FF7-9E7E-5DFE838E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0DD-7C95-4B69-BD0C-D1C69C9F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64E-A8FD-4821-96A4-EE510AFD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2EE-5A92-4D66-89A0-CA18FB09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0B4A-D109-402E-ABA2-3DF7C011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4DA2-4FD2-4603-9F6F-28FE7950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1664-D9CE-4174-9D07-9CBE64DE9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Nothing but the Bl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23960" y="41907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and Music by Robert Low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and Music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594360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7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What can was away my sin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What can make me whole again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h! precious is the fl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t makes me white as sn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 other fount I kn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 my pardon this I se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 my cleansing, this my plea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h! precious is the fl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t makes me white as sn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 other fount I kn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Nothing can for sin atone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Naught of good that I have done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h! precious is the fl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t makes me white as sn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 other fount I kn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all my hope and peac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all my righteousnes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Nothing but the blood of Jes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h! precious is the fl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t makes me white as sn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 other fount I kn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TERRY</cp:lastModifiedBy>
  <dcterms:modified xsi:type="dcterms:W3CDTF">2008-07-10T12:17:1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